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78DD-C75A-42EE-BA1B-F9731DD94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CB9B-AE2B-494B-9648-A78AF7E96DB3}" type="slidenum">
              <a:rPr b="0" lang="en-US" sz="1200" spc="-1" strike="noStrike">
                <a:solidFill>
                  <a:srgbClr val="6666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4C33-95EA-42A1-A5C5-E760717BC0EA}" type="slidenum">
              <a:rPr b="0" lang="en-US" sz="1200" spc="-1" strike="noStrike">
                <a:solidFill>
                  <a:srgbClr val="6666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6EA3-B66A-4F67-9F03-61A65A3DB3BC}" type="slidenum">
              <a:rPr b="0" lang="en-US" sz="1200" spc="-1" strike="noStrike">
                <a:solidFill>
                  <a:srgbClr val="6666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F174-2BA4-40F0-AA43-9700003E759A}" type="slidenum">
              <a:rPr b="0" lang="en-US" sz="1200" spc="-1" strike="noStrike">
                <a:solidFill>
                  <a:srgbClr val="6666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A750-5319-424D-936D-349F1011E97C}" type="slidenum">
              <a:rPr b="0" lang="en-US" sz="1200" spc="-1" strike="noStrike">
                <a:solidFill>
                  <a:srgbClr val="6666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39E-6E86-4DAA-A723-C3042577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C86F-17DF-459B-87A3-C291CB2B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CB0A-D043-46A3-9683-DA892BF7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354-5872-484E-AFDB-DEC68C27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2942-DD97-4F14-8CE0-4F16DEC5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DE50-D8A0-47FA-B4B9-D6D4DCE6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95D5-0B25-43BD-8E25-7884E88A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6BF9-8FA2-497F-837A-18506727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A4D0-12DC-4158-BF5B-6558D435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7FFE-E27D-4C6C-A269-B17D09A5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0E17-8C74-4BB6-B1A0-490CA946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2FF-09F6-4A2D-AB64-65F42463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21AA-08C4-40FF-9929-7270D9EE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9B00-76DB-4B38-85F3-0DF2A43C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596A-6B71-44AF-B07A-F47C76C1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E74A-018C-4B45-B1B5-DC21498D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6353-BA8A-424C-A589-1389ACBA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4F3-68B1-4D3E-BC6D-FCFAE1D6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AA3-4A9A-4A22-97B6-BD703E9E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6A8-72F2-4F0A-A89A-B9A4C814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145-21BC-4FFB-AA44-AC8797CA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2EC-9E8E-4016-836C-D00E5F62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BD0-1D4F-4659-8B77-AAFEA98F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B15-1E0F-4823-98B5-0391A4B7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3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66663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66663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4EAE-065D-46D0-92F0-70A2D08915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3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66663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66663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39F8-78CB-4090-9F74-34AEBAEC5F98}" type="slidenum">
              <a:rPr b="0" lang="en-US" sz="1000" spc="-1" strike="noStrike">
                <a:solidFill>
                  <a:srgbClr val="6666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bY75hnNzyk" TargetMode="External"/><Relationship Id="rId2" Type="http://schemas.openxmlformats.org/officeDocument/2006/relationships/hyperlink" Target="http://www.youtube.com/watch?v=9gspElv1yvc" TargetMode="External"/><Relationship Id="rId3" Type="http://schemas.openxmlformats.org/officeDocument/2006/relationships/hyperlink" Target="http://www.youtube.com/watch?v=XXdLhTNBHbA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Understanding Rhetoric 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Arial"/>
              </a:rPr>
              <a:t>Ethos</a:t>
            </a:r>
            <a:endParaRPr b="0" lang="en-US" sz="3000" spc="-1" strike="noStrike">
              <a:solidFill>
                <a:srgbClr val="666633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Arial"/>
              </a:rPr>
              <a:t>Logos</a:t>
            </a:r>
            <a:endParaRPr b="0" lang="en-US" sz="3000" spc="-1" strike="noStrike">
              <a:solidFill>
                <a:srgbClr val="666633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Arial"/>
              </a:rPr>
              <a:t>Pathos</a:t>
            </a:r>
            <a:endParaRPr b="0" lang="en-US" sz="30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totle and Rhetor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666633"/>
                </a:solidFill>
                <a:latin typeface="Arial"/>
              </a:rPr>
              <a:t>Rhetoric</a:t>
            </a:r>
            <a:r>
              <a:rPr b="1" lang="en-US" sz="2700" spc="-1" strike="noStrike">
                <a:solidFill>
                  <a:srgbClr val="666633"/>
                </a:solidFill>
                <a:latin typeface="Arial"/>
              </a:rPr>
              <a:t> (n) - the art of speaking or writing effectively. </a:t>
            </a:r>
            <a:endParaRPr b="0" lang="en-US" sz="2700" spc="-1" strike="noStrike">
              <a:solidFill>
                <a:srgbClr val="6666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33"/>
                </a:solidFill>
                <a:latin typeface="Arial"/>
              </a:rPr>
              <a:t>According to Aristotle, rhetoric is "the ability, in each particular case, to see the available means of </a:t>
            </a:r>
            <a:r>
              <a:rPr b="1" lang="en-US" sz="2700" spc="-1" strike="noStrike">
                <a:solidFill>
                  <a:srgbClr val="666633"/>
                </a:solidFill>
                <a:latin typeface="Arial"/>
              </a:rPr>
              <a:t>persuasion</a:t>
            </a:r>
            <a:r>
              <a:rPr b="0" lang="en-US" sz="2700" spc="-1" strike="noStrike">
                <a:solidFill>
                  <a:srgbClr val="666633"/>
                </a:solidFill>
                <a:latin typeface="Arial"/>
              </a:rPr>
              <a:t>.”</a:t>
            </a:r>
            <a:endParaRPr b="0" lang="en-US" sz="2700" spc="-1" strike="noStrike">
              <a:solidFill>
                <a:srgbClr val="6666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33"/>
                </a:solidFill>
                <a:latin typeface="Arial"/>
              </a:rPr>
              <a:t>Rhetoric is the art of persuasion, and Aristotle identified three different types.</a:t>
            </a:r>
            <a:endParaRPr b="0" lang="en-US" sz="27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6633"/>
                </a:solidFill>
                <a:latin typeface="Arial"/>
              </a:rPr>
              <a:t>Ethos</a:t>
            </a: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 is appeal based on the character of the speaker and his or her expertise on the topic.  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Some believe that an ethos-driven document relies on the reputation of the author.   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When examining an argument based on ethos, one should ask if the source is credible.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6633"/>
                </a:solidFill>
                <a:latin typeface="Arial"/>
              </a:rPr>
              <a:t>Logos</a:t>
            </a: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 is appeal based on logic or reason. 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Documents distributed by companies or corporations are logos-driven. 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Scholarly documents are also often logos-driven.   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When examining an argument based on logos one should ask if the logic flows and if statistics are skewed.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6633"/>
                </a:solidFill>
                <a:latin typeface="Arial"/>
              </a:rPr>
              <a:t>Pathos</a:t>
            </a: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 is appeal based on emotion. 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Advertisements tend to be pathos-driven.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When examining an argument based on pathos one should ask if the writer or speaker is “playing” or manipulating the audience.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ercial Examp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I’m Going to Disney World </a:t>
            </a:r>
            <a:br>
              <a:rPr sz="1200"/>
            </a:br>
            <a:r>
              <a:rPr b="0" lang="en-US" sz="12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youtube.com/watch?v=_bY75hnNzyk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Nivea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Arial"/>
              </a:rPr>
              <a:t>http://www.youtube.com/watch?v=k5QE7KV6gQY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Animal Cruelty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www.youtube.com/watch?v=9gspElv1yvc</a:t>
            </a:r>
            <a:br>
              <a:rPr sz="1200"/>
            </a:b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Pepsi </a:t>
            </a:r>
            <a:br>
              <a:rPr sz="1200"/>
            </a:br>
            <a:r>
              <a:rPr b="0" lang="en-US" sz="1200" spc="-1" strike="noStrike" u="sng">
                <a:solidFill>
                  <a:srgbClr val="999900"/>
                </a:solidFill>
                <a:uFillTx/>
                <a:latin typeface="Arial"/>
                <a:hlinkClick r:id="rId3"/>
              </a:rPr>
              <a:t>http://www.youtube.com/watch?v=XXdLhTNBHbA</a:t>
            </a:r>
            <a:br>
              <a:rPr sz="1200"/>
            </a:b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Geiko </a:t>
            </a:r>
            <a:br>
              <a:rPr sz="1200"/>
            </a:br>
            <a:r>
              <a:rPr b="0" lang="en-US" sz="1200" spc="-1" strike="noStrike" u="sng">
                <a:solidFill>
                  <a:srgbClr val="666633"/>
                </a:solidFill>
                <a:uFillTx/>
                <a:latin typeface="Arial"/>
              </a:rPr>
              <a:t>http://www.youtube.com/watch?v=7OIEFo2axGE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McDonalds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Arial"/>
              </a:rPr>
              <a:t>http://www.youtube.com/watch?v=_oACRt-Qp-s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Arial"/>
              </a:rPr>
              <a:t>http://www.youtube.com/watch?v=PmrTDZy3f2M&amp;NR=1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ProActive 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Arial"/>
              </a:rPr>
              <a:t>http://www.youtube.com/watch?v=7eqUClCSdGw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Trident 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Arial"/>
              </a:rPr>
              <a:t>http://www.youtube.com/watch?v=Gf_Jk1zLisg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1:40:53Z</dcterms:created>
  <dc:creator>jreagan</dc:creator>
  <dc:description/>
  <dc:language>en-US</dc:language>
  <cp:lastModifiedBy>UMASD</cp:lastModifiedBy>
  <dcterms:modified xsi:type="dcterms:W3CDTF">2012-11-26T12:39:53Z</dcterms:modified>
  <cp:revision>18</cp:revision>
  <dc:subject/>
  <dc:title>Understanding Rhetoric </dc:title>
</cp:coreProperties>
</file>